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D76-5DE6-4431-B1E9-97F715D2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A8A-E8AE-4427-957B-89840E51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5F52-13DE-4846-B1A1-9640FC51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836-21E2-443C-9309-D8C7A7D9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71CE-633A-493A-8F9D-C04E085D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3AF-87C5-48B8-A989-02574E92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7661-5B43-4219-8D4D-292F4981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D3E-532C-4B05-BA51-5CD40487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12E-F4E5-4A80-95E5-0CD87805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19B-53A6-4CAB-89D1-D22F6B5D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7B0E-22EF-46CA-B773-F3E90C9C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B55-601B-4157-AB28-3705CFC3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18B5B-8EF7-4E1D-A3E4-897C56FCD1A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819E7-2BC3-4A35-94B7-A87E79D47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84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pil élargi en Assemblée Général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u SPPPI-PA/AS3PI-PA</a:t>
            </a:r>
            <a:br>
              <a:rPr sz="3600"/>
            </a:br>
            <a:br>
              <a:rPr sz="3600"/>
            </a:br>
            <a:r>
              <a:rPr b="0" lang="fr-FR" sz="25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29 janvier 2020</a:t>
            </a:r>
            <a:br>
              <a:rPr sz="3600"/>
            </a:br>
            <a:r>
              <a:rPr b="0" lang="fr-FR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alle du conseil Ambès</a:t>
            </a:r>
            <a:br>
              <a:rPr sz="3600"/>
            </a:br>
            <a:br>
              <a:rPr sz="36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 9" descr="Capture d’écran 2019-05-09 à 18.49.35.jpg"/>
          <p:cNvPicPr/>
          <p:nvPr/>
        </p:nvPicPr>
        <p:blipFill>
          <a:blip r:embed="rId1"/>
          <a:stretch/>
        </p:blipFill>
        <p:spPr>
          <a:xfrm>
            <a:off x="6600960" y="127080"/>
            <a:ext cx="132228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8229600" y="34920"/>
            <a:ext cx="46080" cy="662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611280" y="6172200"/>
            <a:ext cx="8101080" cy="46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6" descr="cid:793D124D-D020-418E-8CE6-1AB474E9A68A"/>
          <p:cNvPicPr/>
          <p:nvPr/>
        </p:nvPicPr>
        <p:blipFill>
          <a:blip r:embed="rId2"/>
          <a:stretch/>
        </p:blipFill>
        <p:spPr>
          <a:xfrm>
            <a:off x="762120" y="127080"/>
            <a:ext cx="1854000" cy="141912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3" descr=""/>
          <p:cNvPicPr/>
          <p:nvPr/>
        </p:nvPicPr>
        <p:blipFill>
          <a:blip r:embed="rId3"/>
          <a:stretch/>
        </p:blipFill>
        <p:spPr>
          <a:xfrm>
            <a:off x="1504800" y="30240"/>
            <a:ext cx="393228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c94b17"/>
                </a:solidFill>
                <a:latin typeface="Comic Sans MS"/>
                <a:ea typeface="Comic Sans MS"/>
              </a:rPr>
              <a:t>A.G. de la nouvelle asso suppor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e SPPPI-PA vient de refonder une nouvelle association pour gérer ses finances… AS3PI-P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c94b17"/>
                </a:solidFill>
                <a:latin typeface="Comic Sans MS"/>
                <a:ea typeface="Comic Sans MS"/>
              </a:rPr>
              <a:t> </a:t>
            </a:r>
            <a:r>
              <a:rPr b="0" lang="fr-FR" sz="2000" spc="-1" strike="noStrike">
                <a:solidFill>
                  <a:srgbClr val="c94b17"/>
                </a:solidFill>
                <a:latin typeface="Comic Sans MS"/>
                <a:ea typeface="Comic Sans MS"/>
              </a:rPr>
              <a:t>&gt;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Émargement - présence, modifications éventuelles, remarques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es documents de la nouvelle association et les diaporamas des d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rniers Copil fondateurs : Copil élargi d'octobre 2019, Copil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écembre 2019 réuni en Assemblée constitutive de la nouvelle As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"AS3PI-PA », récépissé de création, statuts. Le bureau proviso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 l'As3pi-pa est constitué de : M Lesbats président, M Michi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résorier, M Génovésio secré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c94b17"/>
                </a:solidFill>
                <a:latin typeface="Comic Sans MS"/>
                <a:ea typeface="Comic Sans MS"/>
              </a:rPr>
              <a:t>&gt;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Vote sur les statuts et le bureau - signatures des documents pour ouverture de compte à la « Banque postale » de Bass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e 5" descr="cid:793D124D-D020-418E-8CE6-1AB474E9A68A"/>
          <p:cNvPicPr/>
          <p:nvPr/>
        </p:nvPicPr>
        <p:blipFill>
          <a:blip r:embed="rId1"/>
          <a:stretch/>
        </p:blipFill>
        <p:spPr>
          <a:xfrm>
            <a:off x="0" y="115920"/>
            <a:ext cx="17002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94b17"/>
                </a:solidFill>
                <a:latin typeface="Comic Sans MS"/>
                <a:ea typeface="Comic Sans MS"/>
              </a:rPr>
              <a:t>Actions en cou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144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emier GROUPIL avec Mme Le Dévéhat   «Inventaire des rejets aqueux dans les eaux superficielles des industries et STEP de la presqu’île d’Ambès» : présentation des objectifs et rectifications éventuelles (Titre, contenu, problématique, méthode…)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ravaux des étudiants en cour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tude sur le Gua (avec les associations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tude sur l'aménagement d'une parcelle "Mémoire de crue" à Saint Louis de Montferrand (Bordeaux Métropole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ravaux pédagogiques pour les élèves du Collège Manon Cormier à Bassens, Reprise contact avec Rosa Bonheur et J Bre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es plaquettes… 4 pages et 8 p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age 5" descr="cid:793D124D-D020-418E-8CE6-1AB474E9A68A"/>
          <p:cNvPicPr/>
          <p:nvPr/>
        </p:nvPicPr>
        <p:blipFill>
          <a:blip r:embed="rId1"/>
          <a:stretch/>
        </p:blipFill>
        <p:spPr>
          <a:xfrm>
            <a:off x="63360" y="115920"/>
            <a:ext cx="17002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9T08:39:25Z</dcterms:created>
  <dc:creator>Michel LESBATS</dc:creator>
  <dc:description/>
  <cp:keywords/>
  <dc:language>en-US</dc:language>
  <cp:lastModifiedBy>Michel LESBATS</cp:lastModifiedBy>
  <dcterms:modified xsi:type="dcterms:W3CDTF">2020-01-29T09:14:37Z</dcterms:modified>
  <cp:revision>349</cp:revision>
  <dc:subject/>
  <dc:title>Copil SPPPI-PA  10 mai 2019 Salle du conseil Bassens</dc:title>
</cp:coreProperties>
</file>