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CDA5-1079-4B66-9A48-070BC51213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C958-87DC-42AE-8510-F0921F8D04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19C7-531A-4F16-A9E5-1BDC80EC8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CE8C-59B8-4F60-A15F-DB2B475F6C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DF62-DDAC-4664-B7A7-2AE0681FE9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1709-7A4F-4097-8EB4-C5C47CF7D7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1E16-0B16-4115-994C-37E5A35010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A0EF-C057-45AF-87CE-A1B730908D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3B61-94BF-4E31-8F38-A2C1103EA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79C4-DB36-48D8-BAC6-717619A8A8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DA4A-E766-402E-A4FB-D57FD40641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7B2B-A2A9-4E70-86CD-2E5AC38A0A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AF21-C53D-401A-9E07-2F4913BE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4D85-633C-4131-A5ED-FCAC6B7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29617-2D80-459C-8D73-BC4C2F30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6BDCE-1E0C-4CE2-AAA7-BCB96711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09B28-2701-47B2-90DB-FB79C8D4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EE2FF-3042-4B55-A545-27B20FCE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0BC2-2D0D-4869-926C-3182886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A7A43-AADF-48B4-A1E0-A041A71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60E3-F662-426E-920F-E6E13D2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782F8-337E-4ADE-8F69-2938924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F47D-2FEA-48AE-8E16-EAC2FC14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34DD8-5DD1-4AAB-BD79-0C30921D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9A3BD-7ACF-4ED8-9B4E-A2FAB597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8A323-34D6-45B2-862E-A9636CA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0EFD6-FBB3-4BBF-ACF7-5154E57B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41E1B-6472-4A03-A6AE-DB0AB16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06482-AF64-4EC5-BB9F-41B70E5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F8112-B24B-4309-B432-859B023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7C5F5-CCD2-4966-B5AE-C06D61B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B9000-6D16-4D56-A883-7B65718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41A2C-BBBE-4209-B024-35BD24B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43491-9153-4229-8FE9-07B371A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6A326-CC63-428F-BAA6-0DF33530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B2CB9-DCF3-4656-B53C-945776B0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56C35-50BF-4D55-B46E-44A5FC0A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F9C0D-989E-4113-8E3B-99810E9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9113B-04A4-48A5-B031-86325BF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10E5E-7D53-432D-961E-919A6A3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A53AB-EC64-4759-8D7C-88286A9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9B42A-5D80-42D2-8613-ED0C7106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77A56-D938-4213-8790-7F0601B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A1CE9-AFE2-4E52-AD35-A5D2712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69CB2-BC7C-488C-B640-FA462A0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99A71-EDB9-4911-8BC2-73B60C74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48CFA-9FE3-4BA6-B4A0-4490F8C3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0135F-978F-4AB2-9E16-F7CBC1AF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riangle rectangle 3"/>
          <p:cNvSpPr/>
          <p:nvPr/>
        </p:nvSpPr>
        <p:spPr>
          <a:xfrm flipV="1">
            <a:off x="0" y="-720"/>
            <a:ext cx="9144000" cy="442908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4" descr="Animationx10.gif"/>
          <p:cNvPicPr/>
          <p:nvPr/>
        </p:nvPicPr>
        <p:blipFill>
          <a:blip r:embed="rId2"/>
          <a:stretch/>
        </p:blipFill>
        <p:spPr>
          <a:xfrm>
            <a:off x="5738760" y="5349960"/>
            <a:ext cx="3184560" cy="127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4" descr="Animationx10.gif"/>
          <p:cNvPicPr/>
          <p:nvPr/>
        </p:nvPicPr>
        <p:blipFill>
          <a:blip r:embed="rId2"/>
          <a:stretch/>
        </p:blipFill>
        <p:spPr>
          <a:xfrm>
            <a:off x="809640" y="2703600"/>
            <a:ext cx="7688160" cy="3089160"/>
          </a:xfrm>
          <a:prstGeom prst="rect">
            <a:avLst/>
          </a:prstGeom>
          <a:ln w="0">
            <a:noFill/>
          </a:ln>
        </p:spPr>
      </p:pic>
      <p:sp>
        <p:nvSpPr>
          <p:cNvPr id="80" name="Triangle rectangle 5"/>
          <p:cNvSpPr/>
          <p:nvPr/>
        </p:nvSpPr>
        <p:spPr>
          <a:xfrm flipV="1">
            <a:off x="0" y="0"/>
            <a:ext cx="9144000" cy="347976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iangle rectangle 6"/>
          <p:cNvSpPr/>
          <p:nvPr/>
        </p:nvSpPr>
        <p:spPr>
          <a:xfrm flipH="1">
            <a:off x="0" y="6248520"/>
            <a:ext cx="9144000" cy="609480"/>
          </a:xfrm>
          <a:prstGeom prst="rtTriangle">
            <a:avLst/>
          </a:prstGeom>
          <a:solidFill>
            <a:srgbClr val="443a31"/>
          </a:solidFill>
          <a:ln w="19080">
            <a:solidFill>
              <a:srgbClr val="443a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gner un rectangle à un seul coin 3"/>
          <p:cNvSpPr/>
          <p:nvPr/>
        </p:nvSpPr>
        <p:spPr>
          <a:xfrm>
            <a:off x="1065240" y="0"/>
            <a:ext cx="8091360" cy="914400"/>
          </a:xfrm>
          <a:custGeom>
            <a:avLst/>
            <a:gdLst/>
            <a:ahLst/>
            <a:rect l="l" t="t" r="r" b="b"/>
            <a:pathLst>
              <a:path w="8091487" h="914400">
                <a:moveTo>
                  <a:pt x="0" y="0"/>
                </a:moveTo>
                <a:lnTo>
                  <a:pt x="7673058" y="0"/>
                </a:lnTo>
                <a:lnTo>
                  <a:pt x="8091487" y="418429"/>
                </a:lnTo>
                <a:lnTo>
                  <a:pt x="8091487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4" descr=""/>
          <p:cNvPicPr/>
          <p:nvPr/>
        </p:nvPicPr>
        <p:blipFill>
          <a:blip r:embed="rId2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22" name="Connecteur droit 5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 9" descr=""/>
          <p:cNvPicPr/>
          <p:nvPr/>
        </p:nvPicPr>
        <p:blipFill>
          <a:blip r:embed="rId3"/>
          <a:stretch/>
        </p:blipFill>
        <p:spPr>
          <a:xfrm>
            <a:off x="8051760" y="-25560"/>
            <a:ext cx="1114560" cy="96696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7"/>
          <p:cNvSpPr/>
          <p:nvPr/>
        </p:nvSpPr>
        <p:spPr>
          <a:xfrm>
            <a:off x="3035160" y="6607080"/>
            <a:ext cx="478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éation de la commission « Alerte 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8"/>
          <p:cNvSpPr/>
          <p:nvPr/>
        </p:nvSpPr>
        <p:spPr>
          <a:xfrm>
            <a:off x="901800" y="6597720"/>
            <a:ext cx="21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credi 29 juin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9" descr=""/>
          <p:cNvPicPr/>
          <p:nvPr/>
        </p:nvPicPr>
        <p:blipFill>
          <a:blip r:embed="rId4"/>
          <a:stretch/>
        </p:blipFill>
        <p:spPr>
          <a:xfrm>
            <a:off x="0" y="-25560"/>
            <a:ext cx="1076400" cy="939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3C991-30E4-40D2-8314-4D21ED890508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gner un rectangle à un seul coin 3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 4" descr=""/>
          <p:cNvPicPr/>
          <p:nvPr/>
        </p:nvPicPr>
        <p:blipFill>
          <a:blip r:embed="rId2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5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2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3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4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A7D3A-3F06-404C-A372-CC1F5FA7A110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riangle isocèle 4"/>
          <p:cNvSpPr/>
          <p:nvPr/>
        </p:nvSpPr>
        <p:spPr>
          <a:xfrm rot="10800000">
            <a:off x="0" y="-360"/>
            <a:ext cx="9144000" cy="5157720"/>
          </a:xfrm>
          <a:prstGeom prst="triangle">
            <a:avLst>
              <a:gd name="adj" fmla="val 100000"/>
            </a:avLst>
          </a:prstGeom>
          <a:solidFill>
            <a:srgbClr val="443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 6" descr="Animationx10.gif"/>
          <p:cNvPicPr/>
          <p:nvPr/>
        </p:nvPicPr>
        <p:blipFill>
          <a:blip r:embed="rId2"/>
          <a:stretch/>
        </p:blipFill>
        <p:spPr>
          <a:xfrm>
            <a:off x="6951600" y="5668920"/>
            <a:ext cx="1976400" cy="793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Espace réservé du contenu 3" descr=""/>
          <p:cNvPicPr/>
          <p:nvPr/>
        </p:nvPicPr>
        <p:blipFill>
          <a:blip r:embed="rId2"/>
          <a:srcRect l="0" t="18853" r="0" b="18853"/>
          <a:stretch/>
        </p:blipFill>
        <p:spPr>
          <a:xfrm>
            <a:off x="4175280" y="1308240"/>
            <a:ext cx="4620960" cy="3022560"/>
          </a:xfrm>
          <a:prstGeom prst="rect">
            <a:avLst/>
          </a:prstGeom>
          <a:ln w="9360">
            <a:solidFill>
              <a:srgbClr val="009de0"/>
            </a:solidFill>
            <a:miter/>
          </a:ln>
        </p:spPr>
      </p:pic>
      <p:sp>
        <p:nvSpPr>
          <p:cNvPr id="252" name="Triangle rectangle 4"/>
          <p:cNvSpPr/>
          <p:nvPr/>
        </p:nvSpPr>
        <p:spPr>
          <a:xfrm flipH="1">
            <a:off x="7980480" y="3597120"/>
            <a:ext cx="815760" cy="733680"/>
          </a:xfrm>
          <a:prstGeom prst="rtTriangle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890400" y="439092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reptiumende re omnisinis dolori blac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oneTexte 6"/>
          <p:cNvSpPr/>
          <p:nvPr/>
        </p:nvSpPr>
        <p:spPr>
          <a:xfrm>
            <a:off x="4175280" y="4795920"/>
            <a:ext cx="4545000" cy="146196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Itas eaquis et </a:t>
            </a:r>
            <a:r>
              <a:rPr b="1" lang="fr-FR" sz="1800" spc="-1" strike="noStrike" baseline="30000">
                <a:solidFill>
                  <a:srgbClr val="ffffff"/>
                </a:solidFill>
                <a:latin typeface="Arial"/>
              </a:rPr>
              <a:t>excerferum nuscien </a:t>
            </a:r>
            <a:r>
              <a:rPr b="0" lang="fr-FR" sz="1800" spc="-1" strike="noStrike" baseline="30000">
                <a:solidFill>
                  <a:srgbClr val="ffffff"/>
                </a:solidFill>
                <a:latin typeface="Arial"/>
              </a:rPr>
              <a:t>ditione dic tem hiciliciist, con rem aut volest, sedi doles erro te sa sam volum dolumqui aceprae eicipsa pelesequ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contenu 2"/>
          <p:cNvSpPr/>
          <p:nvPr/>
        </p:nvSpPr>
        <p:spPr>
          <a:xfrm>
            <a:off x="4064040" y="4648320"/>
            <a:ext cx="934920" cy="293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009de0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contenu 2"/>
          <p:cNvSpPr/>
          <p:nvPr/>
        </p:nvSpPr>
        <p:spPr>
          <a:xfrm>
            <a:off x="4064040" y="1109520"/>
            <a:ext cx="1960560" cy="36216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330120" y="1308240"/>
            <a:ext cx="3594240" cy="5095800"/>
          </a:xfrm>
          <a:prstGeom prst="rect">
            <a:avLst/>
          </a:prstGeom>
          <a:noFill/>
          <a:ln w="936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 baseline="30000">
                <a:solidFill>
                  <a:srgbClr val="000000"/>
                </a:solidFill>
                <a:latin typeface="Arial"/>
              </a:rPr>
              <a:t>Itas eaquis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 baseline="30000">
                <a:solidFill>
                  <a:srgbClr val="000000"/>
                </a:solidFill>
                <a:latin typeface="Arial"/>
              </a:rPr>
              <a:t>excerferum nuscien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ditione dic tem hiciliciist, con rem aut volest, sedi doles erro te sa sam volum dolumqui aceprae eicipsa pelesequod que cum hicieni hillant endi consequ iduciet ut lab 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c6c43"/>
              </a:buClr>
              <a:buSzPct val="50000"/>
              <a:buFont typeface="Arial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Ficiunt dolupta cone poris autaquu ndamus, cusciisque mo tem aut ut fugitin ullit, ili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c6c43"/>
              </a:buClr>
              <a:buSzPct val="50000"/>
              <a:buFont typeface="Arial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omnis dolles diorumquam, ius sinvers pelitia quo ea nam repudit atisciam expera iliciae cepernat fugitas sa conse molo modi berecti tem ius, officie ndiscip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gner un rectangle à un seul coin 10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 11" descr=""/>
          <p:cNvPicPr/>
          <p:nvPr/>
        </p:nvPicPr>
        <p:blipFill>
          <a:blip r:embed="rId3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260" name="Connecteur droit 12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contenu 2"/>
          <p:cNvSpPr/>
          <p:nvPr/>
        </p:nvSpPr>
        <p:spPr>
          <a:xfrm>
            <a:off x="168120" y="1146240"/>
            <a:ext cx="2833920" cy="288720"/>
          </a:xfrm>
          <a:prstGeom prst="rect">
            <a:avLst/>
          </a:prstGeom>
          <a:solidFill>
            <a:srgbClr val="443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5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6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7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36D4E-DCAA-4E0E-8562-9EFA364E327A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Espace réservé du contenu 3" descr=""/>
          <p:cNvPicPr/>
          <p:nvPr/>
        </p:nvPicPr>
        <p:blipFill>
          <a:blip r:embed="rId2"/>
          <a:srcRect l="0" t="18853" r="0" b="18853"/>
          <a:stretch/>
        </p:blipFill>
        <p:spPr>
          <a:xfrm>
            <a:off x="0" y="81900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304" name="ZoneTexte 4"/>
          <p:cNvSpPr/>
          <p:nvPr/>
        </p:nvSpPr>
        <p:spPr>
          <a:xfrm>
            <a:off x="4390920" y="1576440"/>
            <a:ext cx="4361040" cy="26258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0" bIns="46800" anchor="t">
            <a:noAutofit/>
          </a:bodyPr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excerferum nus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ditione dic tem hiciliciist, con rem aut volest, sedi do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erro te sa sam volum dolumqui aceprae eicip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541440"/>
                <a:tab algn="l" pos="1082520"/>
                <a:tab algn="l" pos="1623960"/>
                <a:tab algn="l" pos="2165400"/>
                <a:tab algn="l" pos="2706840"/>
                <a:tab algn="l" pos="3247920"/>
                <a:tab algn="l" pos="3789360"/>
                <a:tab algn="l" pos="4330800"/>
                <a:tab algn="l" pos="4871880"/>
                <a:tab algn="l" pos="54133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pelesequod que cum hic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contenu 2"/>
          <p:cNvSpPr/>
          <p:nvPr/>
        </p:nvSpPr>
        <p:spPr>
          <a:xfrm>
            <a:off x="4308480" y="1409760"/>
            <a:ext cx="828720" cy="26820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 6" descr=""/>
          <p:cNvPicPr/>
          <p:nvPr/>
        </p:nvPicPr>
        <p:blipFill>
          <a:blip r:embed="rId3"/>
          <a:stretch/>
        </p:blipFill>
        <p:spPr>
          <a:xfrm>
            <a:off x="8690040" y="6404040"/>
            <a:ext cx="466560" cy="466560"/>
          </a:xfrm>
          <a:prstGeom prst="rect">
            <a:avLst/>
          </a:prstGeom>
          <a:ln w="0">
            <a:noFill/>
          </a:ln>
        </p:spPr>
      </p:pic>
      <p:sp>
        <p:nvSpPr>
          <p:cNvPr id="307" name="Rogner un rectangle à un seul coin 7"/>
          <p:cNvSpPr/>
          <p:nvPr/>
        </p:nvSpPr>
        <p:spPr>
          <a:xfrm>
            <a:off x="0" y="0"/>
            <a:ext cx="9156600" cy="914400"/>
          </a:xfrm>
          <a:custGeom>
            <a:avLst/>
            <a:gdLst/>
            <a:ahLst/>
            <a:rect l="l" t="t" r="r" b="b"/>
            <a:pathLst>
              <a:path w="9156700" h="914400">
                <a:moveTo>
                  <a:pt x="0" y="0"/>
                </a:moveTo>
                <a:lnTo>
                  <a:pt x="8738271" y="0"/>
                </a:lnTo>
                <a:lnTo>
                  <a:pt x="9156700" y="418429"/>
                </a:lnTo>
                <a:lnTo>
                  <a:pt x="9156700" y="914400"/>
                </a:lnTo>
                <a:lnTo>
                  <a:pt x="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cteur droit 8"/>
          <p:cNvSpPr/>
          <p:nvPr/>
        </p:nvSpPr>
        <p:spPr>
          <a:xfrm flipV="1">
            <a:off x="3002040" y="6652800"/>
            <a:ext cx="96840" cy="204840"/>
          </a:xfrm>
          <a:prstGeom prst="line">
            <a:avLst/>
          </a:prstGeom>
          <a:ln w="6480">
            <a:solidFill>
              <a:srgbClr val="009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ec6c43"/>
              </a:buClr>
              <a:buFont typeface="Brix Slab Bold"/>
              <a:buChar char="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de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c6c4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8"/>
          </p:nvPr>
        </p:nvSpPr>
        <p:spPr>
          <a:xfrm>
            <a:off x="901800" y="665460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9"/>
          </p:nvPr>
        </p:nvSpPr>
        <p:spPr>
          <a:xfrm>
            <a:off x="3039840" y="6654600"/>
            <a:ext cx="52578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000" spc="-1" strike="noStrike">
                <a:solidFill>
                  <a:srgbClr val="bead8a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bead8a"/>
                </a:solidFill>
                <a:latin typeface="Times New Roman"/>
                <a:ea typeface="Arial"/>
              </a:rPr>
              <a:t>Vendredi 3 juin 2016 / Introduction aux outils utilisés en modélisation des incen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0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009de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FE7EB-7590-49EF-81B7-7CF5034B497D}" type="slidenum">
              <a:rPr b="0" lang="fr-FR" sz="900" spc="-1" strike="noStrike">
                <a:solidFill>
                  <a:srgbClr val="009de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georisques.gouv.fr/cartes-interactives#/show/http%3A%2F%2Fws.carmencarto.fr%2FWFS%2F168%2Fzonage_sismique%3F/Zonage_sismique_Communes/411145.28436859,6433835.6972597,432717.55549199,6448281.4145297/EPSG%3A2154" TargetMode="External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Image 4" descr=""/>
          <p:cNvPicPr/>
          <p:nvPr/>
        </p:nvPicPr>
        <p:blipFill>
          <a:blip r:embed="rId1"/>
          <a:stretch/>
        </p:blipFill>
        <p:spPr>
          <a:xfrm>
            <a:off x="7631280" y="747720"/>
            <a:ext cx="1280880" cy="1112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989000" y="2341440"/>
            <a:ext cx="5462640" cy="2082960"/>
          </a:xfrm>
          <a:prstGeom prst="rect">
            <a:avLst/>
          </a:prstGeom>
          <a:solidFill>
            <a:srgbClr val="c1e8fb"/>
          </a:solidFill>
          <a:ln w="0">
            <a:noFill/>
          </a:ln>
        </p:spPr>
        <p:txBody>
          <a:bodyPr lIns="180000" rIns="180000" tIns="180000" bIns="1800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71a2"/>
                </a:solidFill>
                <a:latin typeface="Arial"/>
              </a:rPr>
              <a:t>Création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71a2"/>
                </a:solidFill>
                <a:latin typeface="Arial"/>
              </a:rPr>
              <a:t>la commission « Alert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a71a2"/>
                </a:solidFill>
                <a:latin typeface="Arial"/>
              </a:rPr>
              <a:t>Travail prépa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Image 4" descr=""/>
          <p:cNvPicPr/>
          <p:nvPr/>
        </p:nvPicPr>
        <p:blipFill>
          <a:blip r:embed="rId2"/>
          <a:stretch/>
        </p:blipFill>
        <p:spPr>
          <a:xfrm>
            <a:off x="398520" y="5318280"/>
            <a:ext cx="1347840" cy="117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Espace réservé du contenu 4" descr=""/>
          <p:cNvPicPr/>
          <p:nvPr/>
        </p:nvPicPr>
        <p:blipFill>
          <a:blip r:embed="rId1"/>
          <a:stretch/>
        </p:blipFill>
        <p:spPr>
          <a:xfrm>
            <a:off x="1054080" y="928800"/>
            <a:ext cx="7018200" cy="5751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isque sismique sur la Presqu’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5B999-D1E9-4CF5-A4CD-5669F60A0B2C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11960" y="39085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9f3e91"/>
                </a:solidFill>
                <a:uFillTx/>
                <a:latin typeface="Arial"/>
                <a:hlinkClick r:id="rId2"/>
              </a:rPr>
              <a:t>http://www.georisques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ZoneTexte 11"/>
          <p:cNvSpPr/>
          <p:nvPr/>
        </p:nvSpPr>
        <p:spPr>
          <a:xfrm>
            <a:off x="4989600" y="2460600"/>
            <a:ext cx="4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ZoneTexte 12"/>
          <p:cNvSpPr/>
          <p:nvPr/>
        </p:nvSpPr>
        <p:spPr>
          <a:xfrm>
            <a:off x="5238720" y="42195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S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13"/>
          <p:cNvSpPr/>
          <p:nvPr/>
        </p:nvSpPr>
        <p:spPr>
          <a:xfrm>
            <a:off x="5889600" y="4863960"/>
            <a:ext cx="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A&amp;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14"/>
          <p:cNvSpPr/>
          <p:nvPr/>
        </p:nvSpPr>
        <p:spPr>
          <a:xfrm>
            <a:off x="6194520" y="35942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15"/>
          <p:cNvSpPr/>
          <p:nvPr/>
        </p:nvSpPr>
        <p:spPr>
          <a:xfrm>
            <a:off x="5391000" y="569268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bjectifs de la commission « Aler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lexion sur « comment se fait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sur la Presq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bès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dibilité des sir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relation / coupler les sirènes du RNA et des entrepris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blir les conduites à tenir par acteur selon la chronologi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rise, en se basant sur le DDRM et le DICRIM 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r ac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mairie, entreprise, cito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our les 3 temps d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une cri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avant la crise, pendant la crise et après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de0"/>
              </a:buClr>
              <a:buFont typeface="Arial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position 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tabl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D9AFD-9292-4832-8A61-E89E43B7C3D4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 des conduites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79360" y="1236600"/>
          <a:ext cx="8643960" cy="4857840"/>
        </p:xfrm>
        <a:graphic>
          <a:graphicData uri="http://schemas.openxmlformats.org/drawingml/2006/table">
            <a:tbl>
              <a:tblPr/>
              <a:tblGrid>
                <a:gridCol w="1773360"/>
                <a:gridCol w="2290680"/>
                <a:gridCol w="2289240"/>
                <a:gridCol w="229068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éa 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ue (inond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d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d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ès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dige le DICRIM et le PCS de la comm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rti les citoyens de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rti les citoyens de la fin de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dige son P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évois des barrières de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 tiens informé de la situation et mets en place des barrières de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 l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ventaire des dom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orme sur le risque, sa fréquence, son importance, les lieux de ref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 tiens informé de la situation et réalise les gestes essenti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auffe dès que possible les piè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ff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ait l</a:t>
                      </a:r>
                      <a:r>
                        <a:rPr b="0" lang="ja-JP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ventaire des domm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6E720-0D81-489F-ACAC-5B1E42A18071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 des conduites à t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79360" y="1236600"/>
          <a:ext cx="8643960" cy="4857840"/>
        </p:xfrm>
        <a:graphic>
          <a:graphicData uri="http://schemas.openxmlformats.org/drawingml/2006/table">
            <a:tbl>
              <a:tblPr/>
              <a:tblGrid>
                <a:gridCol w="1773360"/>
                <a:gridCol w="2290680"/>
                <a:gridCol w="2289240"/>
                <a:gridCol w="2290680"/>
              </a:tblGrid>
              <a:tr h="371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éa 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ust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9d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dant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ès la c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c6f5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  <a:tr h="14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3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fda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9"/>
                    </a:solidFill>
                  </a:tcPr>
                </a:tc>
              </a:tr>
            </a:tbl>
          </a:graphicData>
        </a:graphic>
      </p:graphicFrame>
      <p:sp>
        <p:nvSpPr>
          <p:cNvPr id="429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21A81-8515-4FA4-8B07-5AC17BA7BE31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Commission « Alert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souhaite participer à cette commiss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i peut se positionner comme lead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81558-B9F3-496D-B0C4-6216D1908801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xes et les marges de progr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a des obligations minimales/réglementaires, mais pouvons-nous faire mieux tous ensemb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t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 de la commission « Alerte »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542BF-DDE1-4348-B292-C4651A2EB3A4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bjectifs de cette présenta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biliser le vocabulaire pour communiquer entre parties pre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800"/>
              </a:spcBef>
              <a:buClr>
                <a:srgbClr val="ec6c4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ire la distinction entre aléa, enjeux, phénomène dangereux… vulnérabilité… risqu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e naturelle, technolog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1800"/>
              </a:spcBef>
              <a:buClr>
                <a:srgbClr val="ec6c4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ire la distinction entre information, communication, alerte et vigi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la distinction entre les sirènes du Réseau National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et celles des entreprises (dites P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rendre la gestion des risques majeurs sur le territoire de la Presqu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b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ncer la commission « Alerte » au sein du S3PI-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st-ce que le risque majeu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risque maj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risque caractérisé pa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occurrence (de 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a) faib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dont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avité des conséquences sur les enjeux peuvent être consid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é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vènement potentiellement danger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caractérisé par sa probabilité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ccurrence il produit un phénomène dangereux estimée par son intensité,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-à-dir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pleur de la manifestation du phénomène. Il peut être naturel ou technolog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s enj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correspondent aux populations (enjeux humains), aux biens (enjeux économiques), aux écosystèmes (enjeux écologiques),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-à-dire toutes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ibles susceptibles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être impactées par les phénomènes dangereux produits par les aléa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Les enjeux se caractérisent par leur vulnér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gravité des conséquences sur les enjeux (population, écosystème, économie…) est estimée en prenant en compt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ensité du phénomène dangere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ulnérabilité des enjeux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9025E-029A-47CC-8BCF-6F5F0772992E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ques autres définitions</a:t>
            </a:r>
            <a:r>
              <a:rPr b="0" lang="is-IS" sz="2800" spc="-1" strike="noStrike">
                <a:solidFill>
                  <a:srgbClr val="ffffff"/>
                </a:solidFill>
                <a:latin typeface="Arial"/>
              </a:rPr>
              <a:t>… partag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79000" y="112392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inform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nu du messag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communiquer et des codes utilisés pour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r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a communic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yens et techniqu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permettent la diffusi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message entre un émetteur et un ou plusieurs récepteurs. C’est également l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cessus de diffusion de l’inform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er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préviens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minenc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ituation mettant en jeu la sécurité de la populat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ite à se mettre à 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br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Il y a une noti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800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a vigil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rveillance soutenue et attentive 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phénomè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Elle constitue une première information, un avertissement, qui dans de très rares cas peut conduire à l'activation d'une procédure d'alerte des populations, accompagnée de consignes comme l'ordre d'évacuation ou de mise à l'ab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Chronologie des phases de gestion de cr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91397-95AB-455B-A5DB-F232F16630CD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49120" y="1530360"/>
            <a:ext cx="225756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vant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585880" y="1530360"/>
            <a:ext cx="404820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endant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724800" y="1530360"/>
            <a:ext cx="2108160" cy="500040"/>
          </a:xfrm>
          <a:prstGeom prst="rect">
            <a:avLst/>
          </a:prstGeom>
          <a:solidFill>
            <a:srgbClr val="009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près la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onnecteur droit 9"/>
          <p:cNvSpPr/>
          <p:nvPr/>
        </p:nvSpPr>
        <p:spPr>
          <a:xfrm>
            <a:off x="6678720" y="1530360"/>
            <a:ext cx="0" cy="438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necteur droit 10"/>
          <p:cNvSpPr/>
          <p:nvPr/>
        </p:nvSpPr>
        <p:spPr>
          <a:xfrm>
            <a:off x="2544840" y="1530360"/>
            <a:ext cx="0" cy="438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ectangle 15"/>
          <p:cNvGrpSpPr/>
          <p:nvPr/>
        </p:nvGrpSpPr>
        <p:grpSpPr>
          <a:xfrm>
            <a:off x="5967360" y="4432320"/>
            <a:ext cx="2060640" cy="693720"/>
            <a:chOff x="5967360" y="4432320"/>
            <a:chExt cx="2060640" cy="693720"/>
          </a:xfrm>
        </p:grpSpPr>
        <p:pic>
          <p:nvPicPr>
            <p:cNvPr id="371" name="Rectangle 15" descr=""/>
            <p:cNvPicPr/>
            <p:nvPr/>
          </p:nvPicPr>
          <p:blipFill>
            <a:blip r:embed="rId1"/>
            <a:stretch/>
          </p:blipFill>
          <p:spPr>
            <a:xfrm>
              <a:off x="5967360" y="4432320"/>
              <a:ext cx="2060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021360" y="4464000"/>
              <a:ext cx="1951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in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e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Rectangle 13"/>
          <p:cNvGrpSpPr/>
          <p:nvPr/>
        </p:nvGrpSpPr>
        <p:grpSpPr>
          <a:xfrm>
            <a:off x="195120" y="2109960"/>
            <a:ext cx="8693280" cy="609480"/>
            <a:chOff x="195120" y="2109960"/>
            <a:chExt cx="8693280" cy="609480"/>
          </a:xfrm>
        </p:grpSpPr>
        <p:pic>
          <p:nvPicPr>
            <p:cNvPr id="374" name="Rectangle 13" descr=""/>
            <p:cNvPicPr/>
            <p:nvPr/>
          </p:nvPicPr>
          <p:blipFill>
            <a:blip r:embed="rId2"/>
            <a:stretch/>
          </p:blipFill>
          <p:spPr>
            <a:xfrm>
              <a:off x="195120" y="2109960"/>
              <a:ext cx="86932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49120" y="2141640"/>
              <a:ext cx="8583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igi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Rectangle 14"/>
          <p:cNvGrpSpPr/>
          <p:nvPr/>
        </p:nvGrpSpPr>
        <p:grpSpPr>
          <a:xfrm>
            <a:off x="1841400" y="2700360"/>
            <a:ext cx="1414440" cy="609480"/>
            <a:chOff x="1841400" y="2700360"/>
            <a:chExt cx="1414440" cy="609480"/>
          </a:xfrm>
        </p:grpSpPr>
        <p:pic>
          <p:nvPicPr>
            <p:cNvPr id="377" name="Rectangle 14" descr=""/>
            <p:cNvPicPr/>
            <p:nvPr/>
          </p:nvPicPr>
          <p:blipFill>
            <a:blip r:embed="rId3"/>
            <a:stretch/>
          </p:blipFill>
          <p:spPr>
            <a:xfrm>
              <a:off x="1841400" y="2700360"/>
              <a:ext cx="1414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893960" y="2735280"/>
              <a:ext cx="130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e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ctangle 16"/>
          <p:cNvGrpSpPr/>
          <p:nvPr/>
        </p:nvGrpSpPr>
        <p:grpSpPr>
          <a:xfrm>
            <a:off x="3084480" y="3846600"/>
            <a:ext cx="3602160" cy="609480"/>
            <a:chOff x="3084480" y="3846600"/>
            <a:chExt cx="3602160" cy="609480"/>
          </a:xfrm>
        </p:grpSpPr>
        <p:pic>
          <p:nvPicPr>
            <p:cNvPr id="380" name="Rectangle 16" descr=""/>
            <p:cNvPicPr/>
            <p:nvPr/>
          </p:nvPicPr>
          <p:blipFill>
            <a:blip r:embed="rId4"/>
            <a:stretch/>
          </p:blipFill>
          <p:spPr>
            <a:xfrm>
              <a:off x="3084480" y="3846600"/>
              <a:ext cx="36021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141720" y="3881520"/>
              <a:ext cx="3492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munication de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Rectangle 17"/>
          <p:cNvGrpSpPr/>
          <p:nvPr/>
        </p:nvGrpSpPr>
        <p:grpSpPr>
          <a:xfrm>
            <a:off x="6669000" y="5114880"/>
            <a:ext cx="2389320" cy="719280"/>
            <a:chOff x="6669000" y="5114880"/>
            <a:chExt cx="2389320" cy="719280"/>
          </a:xfrm>
        </p:grpSpPr>
        <p:pic>
          <p:nvPicPr>
            <p:cNvPr id="383" name="Rectangle 17" descr=""/>
            <p:cNvPicPr/>
            <p:nvPr/>
          </p:nvPicPr>
          <p:blipFill>
            <a:blip r:embed="rId5"/>
            <a:stretch/>
          </p:blipFill>
          <p:spPr>
            <a:xfrm>
              <a:off x="6669000" y="5114880"/>
              <a:ext cx="238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724800" y="5148360"/>
              <a:ext cx="22795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mmunication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près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8"/>
          <p:cNvSpPr/>
          <p:nvPr/>
        </p:nvSpPr>
        <p:spPr>
          <a:xfrm>
            <a:off x="249120" y="5919840"/>
            <a:ext cx="8583840" cy="500040"/>
          </a:xfrm>
          <a:prstGeom prst="rect">
            <a:avLst/>
          </a:prstGeom>
          <a:gradFill rotWithShape="0">
            <a:gsLst>
              <a:gs pos="0">
                <a:srgbClr val="ffe3dd"/>
              </a:gs>
              <a:gs pos="100000">
                <a:srgbClr val="ffa18b"/>
              </a:gs>
            </a:gsLst>
            <a:lin ang="5400000"/>
          </a:gradFill>
          <a:ln w="9360">
            <a:solidFill>
              <a:srgbClr val="eb673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ènements «Nat» et «Tech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2"/>
          <p:cNvCxnSpPr/>
          <p:nvPr/>
        </p:nvCxnSpPr>
        <p:spPr>
          <a:xfrm>
            <a:off x="249120" y="1316160"/>
            <a:ext cx="8584200" cy="3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7" name="ZoneTexte 3"/>
          <p:cNvSpPr/>
          <p:nvPr/>
        </p:nvSpPr>
        <p:spPr>
          <a:xfrm>
            <a:off x="3676680" y="94140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lèche à angle droit 22"/>
          <p:cNvSpPr/>
          <p:nvPr/>
        </p:nvSpPr>
        <p:spPr>
          <a:xfrm rot="5400000">
            <a:off x="1400040" y="2647800"/>
            <a:ext cx="500040" cy="487440"/>
          </a:xfrm>
          <a:custGeom>
            <a:avLst/>
            <a:gdLst/>
            <a:ahLst/>
            <a:rect l="l" t="t" r="r" b="b"/>
            <a:pathLst>
              <a:path w="500063" h="487363">
                <a:moveTo>
                  <a:pt x="0" y="365522"/>
                </a:moveTo>
                <a:lnTo>
                  <a:pt x="317302" y="365522"/>
                </a:lnTo>
                <a:lnTo>
                  <a:pt x="317302" y="121841"/>
                </a:lnTo>
                <a:lnTo>
                  <a:pt x="256382" y="121841"/>
                </a:lnTo>
                <a:lnTo>
                  <a:pt x="378222" y="0"/>
                </a:lnTo>
                <a:lnTo>
                  <a:pt x="500063" y="121841"/>
                </a:lnTo>
                <a:lnTo>
                  <a:pt x="439143" y="121841"/>
                </a:lnTo>
                <a:lnTo>
                  <a:pt x="439143" y="487363"/>
                </a:lnTo>
                <a:lnTo>
                  <a:pt x="0" y="487363"/>
                </a:lnTo>
                <a:lnTo>
                  <a:pt x="0" y="365522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lèche à angle droit 23"/>
          <p:cNvSpPr/>
          <p:nvPr/>
        </p:nvSpPr>
        <p:spPr>
          <a:xfrm flipV="1">
            <a:off x="6634080" y="3997440"/>
            <a:ext cx="500040" cy="466560"/>
          </a:xfrm>
          <a:custGeom>
            <a:avLst/>
            <a:gdLst/>
            <a:ahLst/>
            <a:rect l="l" t="t" r="r" b="b"/>
            <a:pathLst>
              <a:path w="500062" h="466725">
                <a:moveTo>
                  <a:pt x="0" y="350044"/>
                </a:moveTo>
                <a:lnTo>
                  <a:pt x="325040" y="350044"/>
                </a:lnTo>
                <a:lnTo>
                  <a:pt x="325040" y="162061"/>
                </a:lnTo>
                <a:lnTo>
                  <a:pt x="266700" y="162061"/>
                </a:lnTo>
                <a:lnTo>
                  <a:pt x="383381" y="0"/>
                </a:lnTo>
                <a:lnTo>
                  <a:pt x="500062" y="162061"/>
                </a:lnTo>
                <a:lnTo>
                  <a:pt x="441721" y="162061"/>
                </a:lnTo>
                <a:lnTo>
                  <a:pt x="441721" y="466725"/>
                </a:lnTo>
                <a:lnTo>
                  <a:pt x="0" y="466725"/>
                </a:lnTo>
                <a:lnTo>
                  <a:pt x="0" y="350044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Rectangle 26"/>
          <p:cNvGrpSpPr/>
          <p:nvPr/>
        </p:nvGrpSpPr>
        <p:grpSpPr>
          <a:xfrm>
            <a:off x="1841400" y="3267000"/>
            <a:ext cx="6650280" cy="603360"/>
            <a:chOff x="1841400" y="3267000"/>
            <a:chExt cx="6650280" cy="603360"/>
          </a:xfrm>
        </p:grpSpPr>
        <p:pic>
          <p:nvPicPr>
            <p:cNvPr id="391" name="Rectangle 26" descr=""/>
            <p:cNvPicPr/>
            <p:nvPr/>
          </p:nvPicPr>
          <p:blipFill>
            <a:blip r:embed="rId6"/>
            <a:stretch/>
          </p:blipFill>
          <p:spPr>
            <a:xfrm>
              <a:off x="1841400" y="3267000"/>
              <a:ext cx="665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893960" y="3297240"/>
              <a:ext cx="65419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stion de la cr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Flèche à angle droit 7"/>
          <p:cNvSpPr/>
          <p:nvPr/>
        </p:nvSpPr>
        <p:spPr>
          <a:xfrm flipV="1">
            <a:off x="3198960" y="2830680"/>
            <a:ext cx="498240" cy="466560"/>
          </a:xfrm>
          <a:custGeom>
            <a:avLst/>
            <a:gdLst/>
            <a:ahLst/>
            <a:rect l="l" t="t" r="r" b="b"/>
            <a:pathLst>
              <a:path w="498475" h="466725">
                <a:moveTo>
                  <a:pt x="0" y="350044"/>
                </a:moveTo>
                <a:lnTo>
                  <a:pt x="317782" y="350044"/>
                </a:lnTo>
                <a:lnTo>
                  <a:pt x="317782" y="116681"/>
                </a:lnTo>
                <a:lnTo>
                  <a:pt x="253771" y="116681"/>
                </a:lnTo>
                <a:lnTo>
                  <a:pt x="376123" y="0"/>
                </a:lnTo>
                <a:lnTo>
                  <a:pt x="498475" y="116681"/>
                </a:lnTo>
                <a:lnTo>
                  <a:pt x="434464" y="116681"/>
                </a:lnTo>
                <a:lnTo>
                  <a:pt x="434464" y="466725"/>
                </a:lnTo>
                <a:lnTo>
                  <a:pt x="0" y="466725"/>
                </a:lnTo>
                <a:lnTo>
                  <a:pt x="0" y="350044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èche à angle droit 33"/>
          <p:cNvSpPr/>
          <p:nvPr/>
        </p:nvSpPr>
        <p:spPr>
          <a:xfrm rot="5400000">
            <a:off x="2665080" y="3817800"/>
            <a:ext cx="498240" cy="453960"/>
          </a:xfrm>
          <a:custGeom>
            <a:avLst/>
            <a:gdLst/>
            <a:ahLst/>
            <a:rect l="l" t="t" r="r" b="b"/>
            <a:pathLst>
              <a:path w="498475" h="454025">
                <a:moveTo>
                  <a:pt x="0" y="340519"/>
                </a:moveTo>
                <a:lnTo>
                  <a:pt x="328216" y="340519"/>
                </a:lnTo>
                <a:lnTo>
                  <a:pt x="328216" y="113506"/>
                </a:lnTo>
                <a:lnTo>
                  <a:pt x="271463" y="113506"/>
                </a:lnTo>
                <a:lnTo>
                  <a:pt x="384969" y="0"/>
                </a:lnTo>
                <a:lnTo>
                  <a:pt x="498475" y="113506"/>
                </a:lnTo>
                <a:lnTo>
                  <a:pt x="441722" y="113506"/>
                </a:lnTo>
                <a:lnTo>
                  <a:pt x="441722" y="454025"/>
                </a:lnTo>
                <a:lnTo>
                  <a:pt x="0" y="454025"/>
                </a:lnTo>
                <a:lnTo>
                  <a:pt x="0" y="340519"/>
                </a:lnTo>
                <a:close/>
              </a:path>
            </a:pathLst>
          </a:cu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0"/>
          </a:gradFill>
          <a:ln w="9360">
            <a:solidFill>
              <a:srgbClr val="009ce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èche vers le bas 16383"/>
          <p:cNvSpPr/>
          <p:nvPr/>
        </p:nvSpPr>
        <p:spPr>
          <a:xfrm>
            <a:off x="4808520" y="2641680"/>
            <a:ext cx="260280" cy="655560"/>
          </a:xfrm>
          <a:prstGeom prst="downArrow">
            <a:avLst>
              <a:gd name="adj1" fmla="val 50000"/>
              <a:gd name="adj2" fmla="val 57696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èche vers le bas 37"/>
          <p:cNvSpPr/>
          <p:nvPr/>
        </p:nvSpPr>
        <p:spPr>
          <a:xfrm>
            <a:off x="7477200" y="3808440"/>
            <a:ext cx="261720" cy="655560"/>
          </a:xfrm>
          <a:prstGeom prst="downArrow">
            <a:avLst>
              <a:gd name="adj1" fmla="val 50000"/>
              <a:gd name="adj2" fmla="val 57738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èche vers le bas 38"/>
          <p:cNvSpPr/>
          <p:nvPr/>
        </p:nvSpPr>
        <p:spPr>
          <a:xfrm>
            <a:off x="8085240" y="3795840"/>
            <a:ext cx="261720" cy="1352520"/>
          </a:xfrm>
          <a:prstGeom prst="downArrow">
            <a:avLst>
              <a:gd name="adj1" fmla="val 50000"/>
              <a:gd name="adj2" fmla="val 57731"/>
            </a:avLst>
          </a:prstGeom>
          <a:gradFill rotWithShape="0">
            <a:gsLst>
              <a:gs pos="0">
                <a:srgbClr val="7ad4ff"/>
              </a:gs>
              <a:gs pos="100000">
                <a:srgbClr val="00aaff"/>
              </a:gs>
            </a:gsLst>
            <a:lin ang="5400000"/>
          </a:gradFill>
          <a:ln w="9360">
            <a:solidFill>
              <a:srgbClr val="009ce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ôle des types de sirènes dans l’al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79000" y="123660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Réseau National d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Alert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RNA) a pour bu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rter les populations en cas de danger immédia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qu'elles prennent les mesures de sauvegarde appropri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s sirènes PP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nt pour bu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lerter les populations, qui sont présentes dans le rayon du PP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de la survenue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accident technologique. Elles font parties du Plan Particulier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 (PPI) pour les entreprises classées SEVESO seuil 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a réglementation, les sirènes du RNA sont donc différentes des sirènes du PPI. Cependant, ne pouvons-nous pas les coupler de manière à augmenter le rayon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dibilité des sirènes et augmenter ainsi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fficacité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ert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074"/>
              </a:spcBef>
              <a:buClr>
                <a:srgbClr val="ec6c4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laquettes ont-elles bien été distribuées ? Des réunions publiques sont-elles nécessaires pour informer la popul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387C8-76E4-47D5-BD3E-3339DB88060A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gestion des risques maj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79000" y="1158840"/>
            <a:ext cx="86439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DDR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Dossier Départemental des Risques Majeurs) : document de vulgarisation, établi au niveau départemental par le Préfet, destiné aux Maires et à leurs administrés, qui consigne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formations essentielles sur les risques naturels et technologiques majeur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 dépar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porter à connaiss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clinaison plus précise du DDRM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elle de la commune. Il est établi par les services déconcentrés de 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t et il est notifié par arrêté préfectoral au m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DICRI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cument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on Communal sur les Risques Majeur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ocu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igé par le Mai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cense les mesures de sauvegarde répondant aux risques naturels et technologiques majeurs sur le territoire de la commune. 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 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aptation locale du DDR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199"/>
              </a:spcBef>
              <a:buClr>
                <a:srgbClr val="ec6c43"/>
              </a:buClr>
              <a:buFont typeface="Lucida Grande"/>
              <a:buChar char="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Le PC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lan Communal de Sauvegarde) : Plan, rédigé par le Maire, qui vise à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parer et organiser la commune pour faire face aux situations d'urg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0DC7B-47F3-44F3-B1F7-F20DB4D7433E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4880" y="0"/>
            <a:ext cx="6986520" cy="914400"/>
          </a:xfrm>
          <a:prstGeom prst="rect">
            <a:avLst/>
          </a:prstGeom>
          <a:noFill/>
          <a:ln w="0">
            <a:noFill/>
          </a:ln>
        </p:spPr>
        <p:txBody>
          <a:bodyPr lIns="360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DDRM de la Gir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Espace réservé du contenu 4" descr="Capture d’écran 2016-06-21 à 16.00.54.png"/>
          <p:cNvPicPr/>
          <p:nvPr/>
        </p:nvPicPr>
        <p:blipFill>
          <a:blip r:embed="rId1"/>
          <a:srcRect l="0" t="820" r="0" b="-1434"/>
          <a:stretch/>
        </p:blipFill>
        <p:spPr>
          <a:xfrm>
            <a:off x="279360" y="1152360"/>
            <a:ext cx="8643960" cy="1405080"/>
          </a:xfrm>
          <a:prstGeom prst="rect">
            <a:avLst/>
          </a:prstGeom>
          <a:ln w="0">
            <a:noFill/>
          </a:ln>
        </p:spPr>
      </p:pic>
      <p:sp>
        <p:nvSpPr>
          <p:cNvPr id="406" name="Espace réservé du numéro de diapositive 3"/>
          <p:cNvSpPr/>
          <p:nvPr/>
        </p:nvSpPr>
        <p:spPr>
          <a:xfrm>
            <a:off x="0" y="6553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3E4CC-96DF-4780-B8A5-92766748FB87}" type="slidenum">
              <a:rPr b="0" lang="fr-FR" sz="900" spc="-1" strike="noStrike">
                <a:solidFill>
                  <a:srgbClr val="009de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Espace réservé du contenu 4" descr=""/>
          <p:cNvPicPr/>
          <p:nvPr/>
        </p:nvPicPr>
        <p:blipFill>
          <a:blip r:embed="rId2"/>
          <a:stretch/>
        </p:blipFill>
        <p:spPr>
          <a:xfrm>
            <a:off x="279360" y="2557440"/>
            <a:ext cx="8643960" cy="455760"/>
          </a:xfrm>
          <a:prstGeom prst="rect">
            <a:avLst/>
          </a:prstGeom>
          <a:ln w="0">
            <a:noFill/>
          </a:ln>
        </p:spPr>
      </p:pic>
      <p:pic>
        <p:nvPicPr>
          <p:cNvPr id="408" name="Espace réservé du contenu 4" descr=""/>
          <p:cNvPicPr/>
          <p:nvPr/>
        </p:nvPicPr>
        <p:blipFill>
          <a:blip r:embed="rId3"/>
          <a:stretch/>
        </p:blipFill>
        <p:spPr>
          <a:xfrm>
            <a:off x="279360" y="3013200"/>
            <a:ext cx="8643960" cy="25380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4" descr=""/>
          <p:cNvPicPr/>
          <p:nvPr/>
        </p:nvPicPr>
        <p:blipFill>
          <a:blip r:embed="rId4"/>
          <a:stretch/>
        </p:blipFill>
        <p:spPr>
          <a:xfrm>
            <a:off x="279360" y="3267000"/>
            <a:ext cx="864396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Espace réservé du contenu 4" descr=""/>
          <p:cNvPicPr/>
          <p:nvPr/>
        </p:nvPicPr>
        <p:blipFill>
          <a:blip r:embed="rId5"/>
          <a:stretch/>
        </p:blipFill>
        <p:spPr>
          <a:xfrm>
            <a:off x="279360" y="3529080"/>
            <a:ext cx="8643960" cy="271440"/>
          </a:xfrm>
          <a:prstGeom prst="rect">
            <a:avLst/>
          </a:prstGeom>
          <a:ln w="0">
            <a:noFill/>
          </a:ln>
        </p:spPr>
      </p:pic>
      <p:sp>
        <p:nvSpPr>
          <p:cNvPr id="411" name="ZoneTexte 9"/>
          <p:cNvSpPr/>
          <p:nvPr/>
        </p:nvSpPr>
        <p:spPr>
          <a:xfrm>
            <a:off x="279360" y="4614840"/>
            <a:ext cx="86439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19320"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-ce que chaque commune de la Presq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e a rédigé son DICRI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19320">
              <a:spcBef>
                <a:spcPts val="18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’en est-il du risque sismi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te de la Presqu’ile d’Amb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7:50:22Z</dcterms:created>
  <dc:creator>université Bx1</dc:creator>
  <dc:description/>
  <dc:language>en-US</dc:language>
  <cp:lastModifiedBy>Damien LAMALLE</cp:lastModifiedBy>
  <dcterms:modified xsi:type="dcterms:W3CDTF">2016-06-28T06:09:34Z</dcterms:modified>
  <cp:revision>131</cp:revision>
  <dc:subject/>
  <dc:title>Présentation PowerPoint</dc:title>
</cp:coreProperties>
</file>